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27.png" ContentType="image/png"/>
  <Override PartName="/ppt/media/image9.jpeg" ContentType="image/jpeg"/>
  <Override PartName="/ppt/media/image26.jpeg" ContentType="image/jpeg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.png" ContentType="image/png"/>
  <Override PartName="/ppt/media/image25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dt" idx="7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 type="ftr" idx="7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 type="sldNum" idx="7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AC11-13A7-413C-9CAB-F4C37C317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E0E7-021C-44B8-B49E-BF09B4612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RPA is an agency of the United States Department of Defense responsible for the new technology development for use by the military. 19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initial purpose is to find ways to address the US military’s concern about survivability of their communication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In 1970s ARPANET became the foundation of today’s inter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Vinton Cerf and Robert Kahn developed the first description of TCP during 1973, and then in May 1974 the first formal description was publish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ICPA : American Institute of Certified Public Accoun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86AD-7B2F-4575-ABA3-5880B788F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*) : by Carol L. Cook; “How Computers Have Simplified Accounting”; http://www.yale.edu/ynhti/curriculum/units/1989/7/89.07.06.x.html#e; 18/05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B1F0-CE4C-4E89-BF4B-C7436BB4E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*) : by Carol L. Cook; “How Computers Have Simplified Accounting”; http://www.yale.edu/ynhti/curriculum/units/1989/7/89.07.06.x.html#e; 18/05/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8922-2F04-4571-A9F6-4BD642148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4CF0-059C-48AD-B9CA-773DDBD53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6DA1-2A0E-459F-9366-BE01E008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E7498-105E-4778-B5FE-CE11BAA4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DE4A7-A3FB-4469-86AB-434DFF2A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F1CAC-4D29-46D8-8661-A90C8D8E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B48CA-7FF9-414C-8600-817A33D6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C62B8C-AF07-43CD-A3BB-98989FF0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94991-38EB-49F0-A3E9-FC379AE4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DFEE2E-D8D1-4486-86B0-FAF97EC6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E7452-FEB6-43A6-89DA-BDF22BAAE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FA17F-E805-4BB7-9139-D818EE729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BF1E6-BF08-48BA-9A06-330BC2A8E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B16B-DBDA-40E6-AD98-2F5DE8DD5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06655-CB1F-435D-B821-45ABE80D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05F5B-6620-42D7-8AC2-200DEC7F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6A51B-0050-4702-8796-D08B1B39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EBA04B-482D-4196-A357-D4319788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31094-E24E-4140-98D1-C46D3B5C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9C7D4-7EFD-4855-8018-D6489271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B92B1A-17D7-41CB-AA3B-E00568B0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E0087-200C-48AD-9462-1A238838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93F1CB-280D-4FBD-AB04-79939573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08557D-E470-4508-91F3-5236C8C19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7FDC-4EFE-46CE-832A-A2A124803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8FB25-5380-4075-B9D4-61152A950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3C3AB-3FE0-492B-A84B-CD15AECE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0EAEE-08F1-4206-B6DD-6D2969ED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62DCA-D031-452B-98A9-591B025A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2756D-5F49-469A-AF37-3B5982DE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4BB50-B8DC-4A53-8C2D-E1D6DF5C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3E56C-A173-4502-BF7C-E30E2193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7B2AE-E1A8-4DC3-82D0-EE658C8C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F1577-C43F-47E0-8670-F494D075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C17E1-0462-46D6-ABCA-5EC55197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495A-0882-4353-8219-62320392A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3856D-D8C4-4376-9FAC-A43E7A6D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B524F-EA28-4C5A-BEC4-536AA0B4D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BBDD5-47E0-47FD-AC44-2DEDD4009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58019-20EE-40B3-A696-065754CB2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30B4AE-A21A-4E14-AB82-66E6F7F6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B011B9-B39D-4135-BF8E-AE235C3C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FEB142-E63E-41B3-B9C9-D93E902D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EDD1FC-24E0-4D48-96E6-7EB1246A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78A0EF-4F77-47F8-8207-13F74CEC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8CF33C-E46D-416C-9CD2-5D56FF8D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3793-F0DB-4A7F-AE57-6BFD470A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35D3C-2E80-461D-B62C-4D3DCE54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16470D-4041-415C-95DB-56AFC10A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F181E8-7ECD-4EF0-B627-469D90F9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D15EB-E7C3-4BE9-B941-1AA229BD3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2AA675-87BD-4A9D-81F4-856B1844C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254F39-EBDB-416E-848B-F7A7CD2D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C981C6-6E53-49C9-B128-24FFB16A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43C25F-CA1C-4195-A368-FAFF6EC6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A27F05-0BC9-4007-9BD8-53B8908E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6E7E8A-090A-4802-B55A-9081E805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E58B-EFE2-4F8A-B63B-92AD794D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65499F-30F3-4251-89FC-172C2EFA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D45169-5063-44D7-AEF7-DA900376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CCA966-3122-4FFA-940A-6E04C655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3A4583-81DE-4B39-AE49-28C7E4DF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2D43BE-D197-44B2-AC14-2F7A9526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D8983F-4448-4A66-AF5E-661892564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A1B57D-C451-4938-9C38-D1FB6C9FE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9DEA35-57A3-4ABC-B5EB-860D8F26A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FED991-A465-4A5A-A000-5F6FC39C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2FABD3-4CCB-4F7B-9872-4142A8F3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95A1-9785-479F-BBBF-3EAE66B6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2782E3-315D-4FA0-BDA0-F48ABD41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53329B-548E-4F29-AF32-4A79EBC4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E93631-04C2-49C0-A494-AD014A46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BAA8B9-1D7D-42AB-A22C-88E2CD15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37A61F-A824-4002-9FFA-D1306D76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1CC969-7E28-45F1-BB73-4DA1C448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52EC14-0209-4445-BE16-79B60BA4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2E2D34-1220-402B-BD0F-D9BD2BBEC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29FB55-36BF-4F33-A2FC-31E1626D0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ECDC47-29AD-4357-A292-AF351296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A9C3-2691-4BCA-AB0C-B28B72B3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CB7712-1507-4E42-917A-0F01A6E6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915302-1FA9-4C21-911E-CEE7E8A2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44195E-A385-4753-B816-CCE8B6A7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7A111A-44B5-434E-9803-B8E9A7DD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6AFBD6-5EAB-4186-B79C-F3D774B6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6C1A29-DE10-43AD-AE8D-9FFBE60A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87087C-8234-4074-9263-0CF791D6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173FAD-075B-40D4-B9CB-660F3584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9AEC04-8CFE-48BE-9CBC-CB8CB125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7389D3-E8ED-4B43-95A6-783B60DA4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CACD-2684-4A04-839F-FAE7F2E7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CF1FD3-85AF-49BB-B862-B9A0B8B7D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38A83D-FC61-4083-AF53-AE77361AE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8C6432-917B-4D06-BD94-11CE23D5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9A4DF3-C5B9-41E1-8877-8B1B2217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9F66B9-D9CD-447C-A404-683F6659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884126-68FB-436F-8FC8-6DCC5FAF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C58B0E-D3A8-451F-989E-837809AC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01C405-E3BB-45AA-A458-F58F79E8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B3263D-25A1-48EE-B2E5-F13ABB14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3BF1F0-2929-4D0D-9498-2B0E7090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7A54-5384-4590-906F-E05A9239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F634BF-8CA6-4E3D-8AFA-AB1DD4DC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69BC06-8805-4852-AADC-2A387F276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E733C2-1205-42A5-A15E-5A4FDD279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11883F-18E8-4B87-A491-781E20C4F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B55E51-35D2-4F70-9441-C9B0BABF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AD865E-CF74-4637-8ED9-0DC00639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985B14-A719-441C-93B7-F41484BA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4379FD-1C3B-4C42-B356-22785C7D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57C011-2E97-444A-A180-76C2FF51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527CBE-7EF0-410A-B76A-DEA8FDF6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7DCC-511A-4DB8-8341-5F687DD4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D69C-2BD3-4AE4-9FE1-AA60EADB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5C7D03-DB78-4BF9-BA25-DC50EFBF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ECCA31-2841-40A8-A00C-98CD6EC3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D6C2EC-C953-4202-A601-12A2C198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4DE053-6823-4FEB-B60E-E1958CA3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6CDAD2-AA65-45B6-B88B-0C5FAFA35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CB23BD-8973-4F4C-A4D0-B4DCFA36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478683-49E9-40EB-83EC-3FC6E359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AEDDA9-2E70-423B-B081-FBBE1C93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87CE97-30D6-411D-882B-E0021DEB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6551A5-21E7-4683-8452-33BAD30C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9FBB-935B-41F3-8029-BBD6CD4D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117B43-7FD5-488C-8961-720712E1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D5ECB8-2371-4245-A8FB-2A91C7B8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1FA12A-CBE1-4537-B72F-B02C0B01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739626-6213-4022-97D5-8C9216D5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37A455-3BE8-4C91-B2F0-2D8A8F8C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8B9449-C09F-4E8A-BB87-44866C448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E71E7D-5F56-4087-87DA-2E83BB1C2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775A-3BF3-4880-9284-DC42A5C5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2FA9-A52F-457F-9295-3AA7D655C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A3F4-2927-40A4-B258-551222346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2306525-D562-4412-84BD-53BC7057C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6C64393-A833-40D4-9C3A-2D83A07F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9167FA5-FD64-4122-9E69-48442360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5B05A5D-4EB3-4BA0-AAD4-A145A4B1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0D58F5A-98C2-4199-8B49-8B3C59C7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108FAF7-C804-468B-9FF5-C5221C78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8A2A244-6870-425F-99A0-D7A26DB8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92A5160-0260-424A-B77F-DF7DFF8E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AD2D988-949C-4FCA-9A7A-B42F31B5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F122B-521A-45AD-ADBA-2B1928593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52C8AB8-320E-4A4E-8D41-9B2948CC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5EEF0A8-8795-4722-8F45-EEFC9FD6C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EA853E9-40FC-4550-A282-CDE52F373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5C52296-DB50-4C46-9196-0D81F7A74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CA03573-6218-41E7-8212-4FC37276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A99117B-BA1F-4679-9DFF-9813141B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AFC7E2F-E9B3-4A93-9651-568DC670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B911966-D026-4626-852E-C6BD239D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D3159C8-C39D-4D77-A8C4-1B8D91A9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D98D1F7-0A3F-44C2-B831-D1002CFA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CC0DC-9A93-470B-885E-26B650B3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4A2EB7B-2EDB-4222-B886-3658E16E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76CFE13-F9C4-48EC-AA6B-B4D3994B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D33AE58-5CE0-46A2-BD82-64878F5B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1839638-528A-4980-999A-F38FD46D6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D9EC11F-4CE0-42D6-957A-87BADB93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278CA72-AF70-4A8E-BAA9-BF6AD67A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C6E3690-EA3D-4B4E-8D0F-5DEF9834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E9B967A-8767-43E6-99F2-C66FCE94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A48A550-FCD7-433D-A5D0-F04612DE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62A6854-C830-41D8-9407-41A13F0C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128FB-7FD6-4925-A466-3F9B36D8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3349AAD-F6FC-4D9E-AAF3-D8225444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4362F6F-4A64-4798-AF86-1BA70F8E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45CA71A-E72A-45DB-8498-76EB7E16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25A3F78-608C-4B0B-86F3-096DC65A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17EF2EB-2C56-4BD3-8F02-AFAE1859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0D72744-955D-4235-A392-A92321A75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C50006A-DAF8-4E43-8B4D-67EE66565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4695C67-A370-4626-99F7-91C8B5CA6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2041D27-7B25-4ECC-83EA-E2CE0895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59483DB-4BF3-4EB0-A2BA-4B0D955E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5AB57-5B4E-4071-A48B-9B95217F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940C8D2-309D-4BDB-8EBE-8ECBEE1E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3F6E52A-4A87-419E-901F-01EEB41B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DAD4FCF-991D-4C8C-BE78-FC35573A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5344396-4CF6-4680-8516-A9D684C8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9153DD1-6EB0-4427-BDD8-9AEEF0D0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D0B0208-A334-407B-ADED-6CCACD9F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C8A717B-945F-41E3-9324-850E7CD8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9F84A2E-1AF0-4A20-8C29-095185313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5FC9AEC-1254-4022-8026-F60DA8D0F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7EF5D-0D5B-4B8E-BA29-F3B3C4E7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4910-C98E-4BED-8519-24CE2D1E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82717-3654-4A53-B572-18D3C762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38E3A-A139-426A-A3D8-61E35B62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2B3A7-6A5D-4D45-AA3D-084CE3C0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ACE51-E5B5-496A-81A1-54563D15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DCF03-C0E9-4FB7-A3E0-854C6FC9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EA241-9D04-477E-98FF-6DE067D81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215C6-909D-48EE-912C-AFACB778B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768E3-8B5E-436B-AFF8-8699875A0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260C2-854F-4EA9-A25C-5F34FE8B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5B5D7-6B14-40EC-B6D7-DC2D886B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481C-B298-4675-A58D-9E55356C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E57CA-4EE6-4A4C-AC99-84788425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859AE-7092-4B14-A976-9335D767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EF830-04AD-408B-8CD2-60464996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85F6B-0D28-4B10-9DDC-A518F7A4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A860D-D95F-4248-80D6-2B8F0097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03788-49DB-4E3C-A9DB-DE8D32E4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2EF93-BAC1-4490-A383-F682EABF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E6912-5034-47EC-8BBA-1A890A36B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1B55A-E862-4B8A-A610-364F22FAC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ECE55-094B-4C6F-B3FE-E82EADF80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B324-E620-4C19-968F-CF22BE6C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1AC58-3216-44B7-9DF8-31DEA11A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62676-2045-4E3D-8EA8-DA4A1170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EE594-F73F-486D-8614-63ABAF46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41A40-8AE8-48F3-90ED-E685D2CF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F97D3-DC83-4B0B-B7A3-6E5F1BB7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B938D-BBB6-4164-9264-72D32CBE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4C179-A4B7-42D4-821D-BE7AA4FC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81E7B-FA28-4166-9459-312F6EF1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33376-0603-4325-BFB3-77645BC5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081FB-9533-42CF-995C-0E84A9359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63E4-17A6-4728-9FC5-9E45266F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A6034-15DD-4524-8B0D-39658515D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137C2-D648-4BA7-BC46-6B08F98F7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ADCCF-43E8-4ADB-9037-F23E0584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CFBD6-F880-451F-9F6B-FD6FBA32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53A6C-88F6-4A0B-A3FA-D05E196F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BE270-24BD-4E4A-9CC9-FE35A1CF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8B642-6790-43B6-A896-55BE8F3E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43A9A-98FF-4428-BFD7-0C2A2D24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BA414-BC7A-4DA4-B46C-692E4C1C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6D433-FD1E-4220-B724-BFEB93DA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2B02-92DF-4121-A52F-7A42AAF9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9A529-B9EC-443E-8AA1-E2EA063F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ACA36-F6C9-4375-A76A-F7177F8CD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840DC-2F8C-4E5A-B267-35D5D9F43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50822-4EF3-45B9-99D7-67C6987E0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9C5D4-22E9-4C86-9963-A65D9B0E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40478-0D26-4DED-910C-BF921671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5D78B-A5AA-427D-BFFB-9A505389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05EBF-AF1F-4C08-9652-BB176453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E80D4-36D7-44AF-BD22-0D5BEBE7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6FEA0-3063-4820-B140-EE2226F1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2516-2414-4A58-BB88-109286F1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AC51C-3943-4134-9F11-9EA095F8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4D89C-41F0-43B9-8E41-8DEF6EDA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6C35B-4FBC-47CE-86D3-19F6736B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8E3BD-6CA1-4031-A25B-B09FD7D3F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105E6-5C87-41F1-9C73-3BA2B955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2FFB7-DBAA-4183-BA5A-7317CD397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E8689-628A-4DBB-8B57-E986C04E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4E7C3-0412-4D8C-A1F6-AE438C92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3BF9E-6B48-4AC6-B974-3402C3EE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D4259-9137-4810-B79A-F146ABA8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D601-FC44-4419-8018-988FFC7A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CEBCA-4F69-463E-A08D-B78BAC85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B7996-F163-458C-B6F7-34A3FF30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EB418-BF42-402D-BF3A-E7A55CFD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9DA47-93E9-48AA-B5D5-2E002819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B9A95-41A7-4003-979B-D415FE3E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2F968-0F5A-4C14-9947-7D34A1C6F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CD2F3-4A48-4B70-80C9-CCFFC9A39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00888-231C-4BD2-BDF7-D3C08F44D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F3A2A-9149-495F-B8C0-5A3633FE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80CF1-291E-4B89-8F87-2BDD2707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41.xml"/><Relationship Id="rId7" Type="http://schemas.openxmlformats.org/officeDocument/2006/relationships/slideLayout" Target="../slideLayouts/slideLayout242.xml"/><Relationship Id="rId8" Type="http://schemas.openxmlformats.org/officeDocument/2006/relationships/slideLayout" Target="../slideLayouts/slideLayout243.xml"/><Relationship Id="rId9" Type="http://schemas.openxmlformats.org/officeDocument/2006/relationships/slideLayout" Target="../slideLayouts/slideLayout244.xml"/><Relationship Id="rId10" Type="http://schemas.openxmlformats.org/officeDocument/2006/relationships/slideLayout" Target="../slideLayouts/slideLayout245.xml"/><Relationship Id="rId11" Type="http://schemas.openxmlformats.org/officeDocument/2006/relationships/slideLayout" Target="../slideLayouts/slideLayout246.xml"/><Relationship Id="rId12" Type="http://schemas.openxmlformats.org/officeDocument/2006/relationships/slideLayout" Target="../slideLayouts/slideLayout247.xml"/><Relationship Id="rId13" Type="http://schemas.openxmlformats.org/officeDocument/2006/relationships/slideLayout" Target="../slideLayouts/slideLayout248.xml"/><Relationship Id="rId14" Type="http://schemas.openxmlformats.org/officeDocument/2006/relationships/slideLayout" Target="../slideLayouts/slideLayout249.xml"/><Relationship Id="rId15" Type="http://schemas.openxmlformats.org/officeDocument/2006/relationships/slideLayout" Target="../slideLayouts/slideLayout250.xml"/><Relationship Id="rId16" Type="http://schemas.openxmlformats.org/officeDocument/2006/relationships/slideLayout" Target="../slideLayouts/slideLayout251.xml"/><Relationship Id="rId17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3.xml"/><Relationship Id="rId7" Type="http://schemas.openxmlformats.org/officeDocument/2006/relationships/slideLayout" Target="../slideLayouts/slideLayout254.xml"/><Relationship Id="rId8" Type="http://schemas.openxmlformats.org/officeDocument/2006/relationships/slideLayout" Target="../slideLayouts/slideLayout255.xml"/><Relationship Id="rId9" Type="http://schemas.openxmlformats.org/officeDocument/2006/relationships/slideLayout" Target="../slideLayouts/slideLayout256.xml"/><Relationship Id="rId10" Type="http://schemas.openxmlformats.org/officeDocument/2006/relationships/slideLayout" Target="../slideLayouts/slideLayout257.xml"/><Relationship Id="rId11" Type="http://schemas.openxmlformats.org/officeDocument/2006/relationships/slideLayout" Target="../slideLayouts/slideLayout258.xml"/><Relationship Id="rId12" Type="http://schemas.openxmlformats.org/officeDocument/2006/relationships/slideLayout" Target="../slideLayouts/slideLayout259.xml"/><Relationship Id="rId13" Type="http://schemas.openxmlformats.org/officeDocument/2006/relationships/slideLayout" Target="../slideLayouts/slideLayout260.xml"/><Relationship Id="rId14" Type="http://schemas.openxmlformats.org/officeDocument/2006/relationships/slideLayout" Target="../slideLayouts/slideLayout261.xml"/><Relationship Id="rId15" Type="http://schemas.openxmlformats.org/officeDocument/2006/relationships/slideLayout" Target="../slideLayouts/slideLayout262.xml"/><Relationship Id="rId16" Type="http://schemas.openxmlformats.org/officeDocument/2006/relationships/slideLayout" Target="../slideLayouts/slideLayout263.xml"/><Relationship Id="rId17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277.xml"/><Relationship Id="rId7" Type="http://schemas.openxmlformats.org/officeDocument/2006/relationships/slideLayout" Target="../slideLayouts/slideLayout278.xml"/><Relationship Id="rId8" Type="http://schemas.openxmlformats.org/officeDocument/2006/relationships/slideLayout" Target="../slideLayouts/slideLayout279.xml"/><Relationship Id="rId9" Type="http://schemas.openxmlformats.org/officeDocument/2006/relationships/slideLayout" Target="../slideLayouts/slideLayout280.xml"/><Relationship Id="rId10" Type="http://schemas.openxmlformats.org/officeDocument/2006/relationships/slideLayout" Target="../slideLayouts/slideLayout281.xml"/><Relationship Id="rId11" Type="http://schemas.openxmlformats.org/officeDocument/2006/relationships/slideLayout" Target="../slideLayouts/slideLayout282.xml"/><Relationship Id="rId12" Type="http://schemas.openxmlformats.org/officeDocument/2006/relationships/slideLayout" Target="../slideLayouts/slideLayout283.xml"/><Relationship Id="rId13" Type="http://schemas.openxmlformats.org/officeDocument/2006/relationships/slideLayout" Target="../slideLayouts/slideLayout284.xml"/><Relationship Id="rId14" Type="http://schemas.openxmlformats.org/officeDocument/2006/relationships/slideLayout" Target="../slideLayouts/slideLayout285.xml"/><Relationship Id="rId15" Type="http://schemas.openxmlformats.org/officeDocument/2006/relationships/slideLayout" Target="../slideLayouts/slideLayout286.xml"/><Relationship Id="rId16" Type="http://schemas.openxmlformats.org/officeDocument/2006/relationships/slideLayout" Target="../slideLayouts/slideLayout287.xml"/><Relationship Id="rId17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3A44-DF2C-4EE6-9E81-2BBBE5F023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8" descr="wireframeOverlay-Home.png"/>
          <p:cNvPicPr/>
          <p:nvPr/>
        </p:nvPicPr>
        <p:blipFill>
          <a:blip r:embed="rId5"/>
          <a:srcRect l="0" t="-93970" r="0" b="0"/>
          <a:stretch/>
        </p:blipFill>
        <p:spPr>
          <a:xfrm>
            <a:off x="179280" y="1182600"/>
            <a:ext cx="8786880" cy="52768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0" descr="DirectionalButtons-RightOnly.png"/>
          <p:cNvPicPr/>
          <p:nvPr/>
        </p:nvPicPr>
        <p:blipFill>
          <a:blip r:embed="rId6"/>
          <a:stretch/>
        </p:blipFill>
        <p:spPr>
          <a:xfrm>
            <a:off x="7821720" y="53352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8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9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0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691F-06DF-458C-8980-24BEBDBA75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3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FB3E-A741-41D0-87D8-FC3FC133BE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8" descr="wireframeOverlay-TCFull.png"/>
          <p:cNvPicPr/>
          <p:nvPr/>
        </p:nvPicPr>
        <p:blipFill>
          <a:blip r:embed="rId5"/>
          <a:srcRect l="-198725" t="0" r="0" b="0"/>
          <a:stretch/>
        </p:blipFill>
        <p:spPr>
          <a:xfrm>
            <a:off x="177840" y="1179360"/>
            <a:ext cx="8788320" cy="527688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4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5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6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B566-36E6-4BE5-B455-D6FA2D621B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wireframeOverlay-SectionH.png"/>
          <p:cNvPicPr/>
          <p:nvPr/>
        </p:nvPicPr>
        <p:blipFill>
          <a:blip r:embed="rId5"/>
          <a:srcRect l="0" t="0" r="-91873" b="0"/>
          <a:stretch/>
        </p:blipFill>
        <p:spPr>
          <a:xfrm>
            <a:off x="182520" y="1179360"/>
            <a:ext cx="8785440" cy="527688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7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8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9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846F-BD84-4212-8F92-68638F16E0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0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1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2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3001-8A00-462E-8F57-AB5663B352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dt" idx="43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ftr" idx="44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sldNum" idx="45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F01B-822A-4CC7-BAE7-2093693FEB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dt" idx="46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ftr" idx="47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sldNum" idx="48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4C6E-B6E5-407A-89C8-CA01D80BB3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8" descr="wireframeOverlay-ContentCap.png"/>
          <p:cNvPicPr/>
          <p:nvPr/>
        </p:nvPicPr>
        <p:blipFill>
          <a:blip r:embed="rId5"/>
          <a:srcRect l="0" t="0" r="0" b="-135873"/>
          <a:stretch/>
        </p:blipFill>
        <p:spPr>
          <a:xfrm>
            <a:off x="182520" y="1179360"/>
            <a:ext cx="4229280" cy="5274000"/>
          </a:xfrm>
          <a:prstGeom prst="rect">
            <a:avLst/>
          </a:prstGeom>
          <a:ln w="0">
            <a:noFill/>
          </a:ln>
        </p:spPr>
      </p:pic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49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50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51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ED19-13FD-44A2-82FD-F4E215B240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52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3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4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1A3C-08A6-497D-8BEC-AF0341F701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8" descr="wireframeOverlay-PCVertical.png"/>
          <p:cNvPicPr/>
          <p:nvPr/>
        </p:nvPicPr>
        <p:blipFill>
          <a:blip r:embed="rId5"/>
          <a:srcRect l="0" t="0" r="0" b="-123316"/>
          <a:stretch/>
        </p:blipFill>
        <p:spPr>
          <a:xfrm>
            <a:off x="182520" y="1179360"/>
            <a:ext cx="5133960" cy="5275440"/>
          </a:xfrm>
          <a:prstGeom prst="rect">
            <a:avLst/>
          </a:prstGeom>
          <a:ln w="0">
            <a:noFill/>
          </a:ln>
        </p:spPr>
      </p:pic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dt" idx="55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 type="ftr" idx="56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8AC0-1803-40CB-B5D3-0453E39FB2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855" name="Rectangle 8"/>
          <p:cNvSpPr/>
          <p:nvPr/>
        </p:nvSpPr>
        <p:spPr>
          <a:xfrm>
            <a:off x="182520" y="3281400"/>
            <a:ext cx="8788320" cy="3174840"/>
          </a:xfrm>
          <a:prstGeom prst="rect">
            <a:avLst/>
          </a:prstGeom>
          <a:gradFill rotWithShape="0">
            <a:gsLst>
              <a:gs pos="0">
                <a:srgbClr val="76b6f2"/>
              </a:gs>
              <a:gs pos="100000">
                <a:srgbClr val="263b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57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58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wireframeOverlay-PCVertical.png"/>
          <p:cNvPicPr/>
          <p:nvPr/>
        </p:nvPicPr>
        <p:blipFill>
          <a:blip r:embed="rId5"/>
          <a:srcRect l="0" t="0" r="0" b="-123316"/>
          <a:stretch/>
        </p:blipFill>
        <p:spPr>
          <a:xfrm>
            <a:off x="3835440" y="1179360"/>
            <a:ext cx="5133960" cy="527544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dt" idx="59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ftr" idx="60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 type="sldNum" idx="61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F649-1786-4AB1-9E6A-29002C8152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6"/>
    <p:sldLayoutId id="2147483910" r:id="rId7"/>
    <p:sldLayoutId id="2147483911" r:id="rId8"/>
    <p:sldLayoutId id="2147483912" r:id="rId9"/>
    <p:sldLayoutId id="2147483913" r:id="rId10"/>
    <p:sldLayoutId id="2147483914" r:id="rId11"/>
    <p:sldLayoutId id="2147483915" r:id="rId12"/>
    <p:sldLayoutId id="2147483916" r:id="rId13"/>
    <p:sldLayoutId id="2147483917" r:id="rId14"/>
    <p:sldLayoutId id="2147483918" r:id="rId15"/>
    <p:sldLayoutId id="2147483919" r:id="rId16"/>
    <p:sldLayoutId id="2147483920" r:id="rId17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62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63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64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1B3C-1646-4D2D-907C-401DF536F8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6"/>
    <p:sldLayoutId id="2147483923" r:id="rId7"/>
    <p:sldLayoutId id="2147483924" r:id="rId8"/>
    <p:sldLayoutId id="2147483925" r:id="rId9"/>
    <p:sldLayoutId id="2147483926" r:id="rId10"/>
    <p:sldLayoutId id="2147483927" r:id="rId11"/>
    <p:sldLayoutId id="2147483928" r:id="rId12"/>
    <p:sldLayoutId id="2147483929" r:id="rId13"/>
    <p:sldLayoutId id="2147483930" r:id="rId14"/>
    <p:sldLayoutId id="2147483931" r:id="rId15"/>
    <p:sldLayoutId id="2147483932" r:id="rId16"/>
    <p:sldLayoutId id="2147483933" r:id="rId17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8" descr="wireframeOverlay-VerticalTC.png"/>
          <p:cNvPicPr/>
          <p:nvPr/>
        </p:nvPicPr>
        <p:blipFill>
          <a:blip r:embed="rId5"/>
          <a:srcRect l="0" t="-93643" r="0" b="0"/>
          <a:stretch/>
        </p:blipFill>
        <p:spPr>
          <a:xfrm>
            <a:off x="7445520" y="1177920"/>
            <a:ext cx="1523880" cy="5275440"/>
          </a:xfrm>
          <a:prstGeom prst="rect">
            <a:avLst/>
          </a:prstGeom>
          <a:ln w="0">
            <a:noFill/>
          </a:ln>
        </p:spPr>
      </p:pic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 type="dt" idx="65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 type="ftr" idx="66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 type="sldNum" idx="67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E8CF-F447-4345-ABDB-33EF92BC4B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1030" name="Rectangle 8"/>
          <p:cNvSpPr/>
          <p:nvPr/>
        </p:nvSpPr>
        <p:spPr>
          <a:xfrm>
            <a:off x="182520" y="1179360"/>
            <a:ext cx="8788320" cy="5276880"/>
          </a:xfrm>
          <a:prstGeom prst="rect">
            <a:avLst/>
          </a:prstGeom>
          <a:gradFill rotWithShape="0">
            <a:gsLst>
              <a:gs pos="0">
                <a:srgbClr val="76b6f2"/>
              </a:gs>
              <a:gs pos="100000">
                <a:srgbClr val="263b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1" name="Picture 10" descr="DirectionalButtons-LeftOnlyOnly.png"/>
          <p:cNvPicPr/>
          <p:nvPr/>
        </p:nvPicPr>
        <p:blipFill>
          <a:blip r:embed="rId5"/>
          <a:stretch/>
        </p:blipFill>
        <p:spPr>
          <a:xfrm>
            <a:off x="7837560" y="5382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 type="dt" idx="68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 type="ftr" idx="69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 type="sldNum" idx="70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5034-14A8-4389-A8A8-61FA71F6AD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6"/>
    <p:sldLayoutId id="2147483949" r:id="rId7"/>
    <p:sldLayoutId id="2147483950" r:id="rId8"/>
    <p:sldLayoutId id="2147483951" r:id="rId9"/>
    <p:sldLayoutId id="2147483952" r:id="rId10"/>
    <p:sldLayoutId id="2147483953" r:id="rId11"/>
    <p:sldLayoutId id="2147483954" r:id="rId12"/>
    <p:sldLayoutId id="2147483955" r:id="rId13"/>
    <p:sldLayoutId id="2147483956" r:id="rId14"/>
    <p:sldLayoutId id="2147483957" r:id="rId15"/>
    <p:sldLayoutId id="2147483958" r:id="rId16"/>
    <p:sldLayoutId id="2147483959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2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95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7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A408-B270-4335-B7FC-EB7A0BD5B2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2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5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CD27-6C94-4F5C-AA1B-8107B3899E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1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47F9-ECB8-47E2-B127-0730D6CF07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280A-0CBC-4314-93EF-80D27583AA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7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31ED-4ECF-4791-84D7-DAAE45F01E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D902-492D-4ECB-9731-7EAF29EA1E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67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9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0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C860-F52E-432D-AF59-54463A8474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17600" y="2168640"/>
            <a:ext cx="8307360" cy="103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BUSINESS &amp; INTERNET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761760" y="3809880"/>
            <a:ext cx="79628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f2f2f2"/>
                </a:solidFill>
                <a:latin typeface="Calibri"/>
              </a:rPr>
              <a:t>By </a:t>
            </a:r>
            <a:endParaRPr b="0" lang="en-US" sz="31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f2f2f2"/>
                </a:solidFill>
                <a:latin typeface="Calibri"/>
              </a:rPr>
              <a:t>Pablo, Duy and Tao</a:t>
            </a:r>
            <a:endParaRPr b="0" lang="en-US" sz="31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3F97-893E-4318-A817-5C220E6E8FEC}" type="datetime">
              <a:rPr b="0" i="1" lang="en-US" sz="3100" spc="-1" strike="noStrike">
                <a:solidFill>
                  <a:srgbClr val="f2f2f2"/>
                </a:solidFill>
                <a:latin typeface="Calibri"/>
              </a:rPr>
              <a:t>07/29/26</a:t>
            </a:fld>
            <a:endParaRPr b="0" lang="en-US" sz="31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pplication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MYOB is a leading international provider of business management solu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nternet and Account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8" name="AutoShape 2"/>
          <p:cNvSpPr/>
          <p:nvPr/>
        </p:nvSpPr>
        <p:spPr>
          <a:xfrm>
            <a:off x="453960" y="685800"/>
            <a:ext cx="830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CCO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Picture 5" descr="Myob1.png"/>
          <p:cNvPicPr/>
          <p:nvPr/>
        </p:nvPicPr>
        <p:blipFill>
          <a:blip r:embed="rId2"/>
          <a:stretch/>
        </p:blipFill>
        <p:spPr>
          <a:xfrm>
            <a:off x="6143760" y="1285920"/>
            <a:ext cx="2143080" cy="128592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6" descr="Myob2.png"/>
          <p:cNvPicPr/>
          <p:nvPr/>
        </p:nvPicPr>
        <p:blipFill>
          <a:blip r:embed="rId3"/>
          <a:stretch/>
        </p:blipFill>
        <p:spPr>
          <a:xfrm>
            <a:off x="785880" y="3786120"/>
            <a:ext cx="707220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-COMMERC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Defini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Utilities (innovations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</a:t>
            </a: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pecific fields 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15440" y="68544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E-COMMERC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onsists of the </a:t>
            </a:r>
            <a:r>
              <a:rPr b="0" lang="en-US" sz="3600" spc="-1" strike="noStrike">
                <a:solidFill>
                  <a:srgbClr val="248aea"/>
                </a:solidFill>
                <a:latin typeface="Calibri"/>
              </a:rPr>
              <a:t>buying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and </a:t>
            </a:r>
            <a:r>
              <a:rPr b="0" lang="en-US" sz="4000" spc="-1" strike="noStrike">
                <a:solidFill>
                  <a:srgbClr val="008000"/>
                </a:solidFill>
                <a:latin typeface="Calibri"/>
              </a:rPr>
              <a:t>selling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of </a:t>
            </a:r>
            <a:r>
              <a:rPr b="0" lang="en-US" sz="3600" spc="-1" strike="noStrike">
                <a:solidFill>
                  <a:srgbClr val="e03133"/>
                </a:solidFill>
                <a:latin typeface="Calibri"/>
              </a:rPr>
              <a:t>products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3200" spc="-1" strike="noStrike">
                <a:solidFill>
                  <a:srgbClr val="5f0eaa"/>
                </a:solidFill>
                <a:latin typeface="Calibri"/>
              </a:rPr>
              <a:t>services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over </a:t>
            </a:r>
            <a:r>
              <a:rPr b="0" lang="en-US" sz="3600" spc="-1" strike="noStrike">
                <a:solidFill>
                  <a:srgbClr val="ff6600"/>
                </a:solidFill>
                <a:latin typeface="Calibri"/>
              </a:rPr>
              <a:t>electronic systems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uch as the Internet and other computer networks (wikipedia.com)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5" name="AutoShape 2"/>
          <p:cNvSpPr/>
          <p:nvPr/>
        </p:nvSpPr>
        <p:spPr>
          <a:xfrm>
            <a:off x="457200" y="2057400"/>
            <a:ext cx="83088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AU" sz="3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 is E-commer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Utiliti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alibri"/>
              </a:rPr>
              <a:t>1. </a:t>
            </a:r>
            <a:r>
              <a:rPr b="0" lang="en-US" sz="1800" spc="-1" strike="noStrike">
                <a:solidFill>
                  <a:srgbClr val="263b86"/>
                </a:solidFill>
                <a:latin typeface="Calibri"/>
              </a:rPr>
              <a:t>Electronic funds transfer (EFT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Calibri"/>
              </a:rPr>
              <a:t>2. </a:t>
            </a:r>
            <a:r>
              <a:rPr b="0" lang="en-US" sz="1800" spc="-1" strike="noStrike">
                <a:solidFill>
                  <a:srgbClr val="263b86"/>
                </a:solidFill>
                <a:latin typeface="Calibri"/>
              </a:rPr>
              <a:t>Supply chain managemen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Calibri"/>
              </a:rPr>
              <a:t>3. </a:t>
            </a:r>
            <a:r>
              <a:rPr b="0" lang="en-US" sz="1800" spc="-1" strike="noStrike">
                <a:solidFill>
                  <a:srgbClr val="263b86"/>
                </a:solidFill>
                <a:latin typeface="Calibri"/>
              </a:rPr>
              <a:t>Internet Market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alibri"/>
              </a:rPr>
              <a:t>4. </a:t>
            </a:r>
            <a:r>
              <a:rPr b="0" lang="en-US" sz="1800" spc="-1" strike="noStrike">
                <a:solidFill>
                  <a:srgbClr val="263b86"/>
                </a:solidFill>
                <a:latin typeface="Calibri"/>
              </a:rPr>
              <a:t>Online transaction process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5. </a:t>
            </a:r>
            <a:r>
              <a:rPr b="0" lang="en-US" sz="1800" spc="-1" strike="noStrike">
                <a:solidFill>
                  <a:srgbClr val="263b86"/>
                </a:solidFill>
                <a:latin typeface="Calibri"/>
              </a:rPr>
              <a:t>Electronic data interchange (EDI)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6. </a:t>
            </a:r>
            <a:r>
              <a:rPr b="0" lang="en-US" sz="1800" spc="-1" strike="noStrike">
                <a:solidFill>
                  <a:srgbClr val="263b86"/>
                </a:solidFill>
                <a:latin typeface="Calibri"/>
              </a:rPr>
              <a:t>Inventory management systems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8" name="AutoShape 2"/>
          <p:cNvSpPr/>
          <p:nvPr/>
        </p:nvSpPr>
        <p:spPr>
          <a:xfrm>
            <a:off x="415800" y="685800"/>
            <a:ext cx="830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E-COMME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9" name="Picture 4" descr="Errores-comunes-del-SEO-B2B.jpg"/>
          <p:cNvPicPr/>
          <p:nvPr/>
        </p:nvPicPr>
        <p:blipFill>
          <a:blip r:embed="rId2"/>
          <a:stretch/>
        </p:blipFill>
        <p:spPr>
          <a:xfrm>
            <a:off x="4495680" y="3124080"/>
            <a:ext cx="384192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pecific field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21" name="Content Placeholder 2" descr=""/>
          <p:cNvPicPr/>
          <p:nvPr/>
        </p:nvPicPr>
        <p:blipFill>
          <a:blip r:embed="rId2"/>
          <a:stretch/>
        </p:blipFill>
        <p:spPr>
          <a:xfrm>
            <a:off x="407880" y="2749680"/>
            <a:ext cx="8321760" cy="3504960"/>
          </a:xfrm>
          <a:prstGeom prst="rect">
            <a:avLst/>
          </a:prstGeom>
          <a:ln w="0">
            <a:noFill/>
          </a:ln>
        </p:spPr>
      </p:pic>
      <p:sp>
        <p:nvSpPr>
          <p:cNvPr id="1122" name="AutoShape 2"/>
          <p:cNvSpPr/>
          <p:nvPr/>
        </p:nvSpPr>
        <p:spPr>
          <a:xfrm>
            <a:off x="415800" y="685800"/>
            <a:ext cx="830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E-COMME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3" name="Picture 6" descr="diagram_supplychain.jpg"/>
          <p:cNvPicPr/>
          <p:nvPr/>
        </p:nvPicPr>
        <p:blipFill>
          <a:blip r:embed="rId3"/>
          <a:stretch/>
        </p:blipFill>
        <p:spPr>
          <a:xfrm>
            <a:off x="4419720" y="2743200"/>
            <a:ext cx="411480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ONCLUSI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415440" y="2437920"/>
            <a:ext cx="78901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8600" indent="-2286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lvl="1" marL="228600" indent="-2286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0000"/>
                </a:solidFill>
                <a:latin typeface="Calibri"/>
              </a:rPr>
              <a:t>INTERNE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457200" indent="-22860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Important tool for business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lvl="1" marL="228600" indent="-22860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Made business easier and faster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lvl="1" marL="228600" indent="-22860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Have changed the way how companies encourage consumers  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8000"/>
                </a:solidFill>
                <a:latin typeface="Calibri"/>
              </a:rPr>
              <a:t>FUTURE </a:t>
            </a:r>
            <a:endParaRPr b="0" lang="en-US" sz="2900" spc="-1" strike="noStrike">
              <a:solidFill>
                <a:srgbClr val="404040"/>
              </a:solidFill>
              <a:latin typeface="Calibri"/>
            </a:endParaRPr>
          </a:p>
          <a:p>
            <a:pPr lvl="1" marL="228600" indent="-22860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Companies working only through internet,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lvl="1" marL="228600" indent="-22860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non presential, 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lvl="1" marL="228600" indent="-22860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online office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REFERENCE LIS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`Wikipedia – E-commerce´, http://en.wikipedia.org/wiki/E-commerce , 22/05/10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`Wikipedia – Internet´, http://en.wikipedia.org/wiki/Internet , 22/05/10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`Ultimosoft – Supply chain´, http://www.ultimosoft.com/industry/supplychain.html , 24/05/10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  <a:ea typeface="宋体"/>
              </a:rPr>
              <a:t>Carol L. Cook; How Computers Have Simplified Accounting´; http://www.yale.edu/ynhti/curriculum/units/1989/7/89.07.06.x.html#e; 18/05/10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www.accountingcoach.com , 18/05/10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www.myob.com, 18/05/10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44040" y="990360"/>
            <a:ext cx="2251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 EN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9" name=""/>
          <p:cNvSpPr txBox="1"/>
          <p:nvPr/>
        </p:nvSpPr>
        <p:spPr>
          <a:xfrm>
            <a:off x="1143000" y="4038480"/>
            <a:ext cx="654192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3b86"/>
                </a:solidFill>
                <a:latin typeface="Calibri"/>
              </a:rPr>
              <a:t>THANK YOU FOR LISTENING!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.=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130" name="Picture 4" descr="pirate63"/>
          <p:cNvPicPr/>
          <p:nvPr/>
        </p:nvPicPr>
        <p:blipFill>
          <a:blip r:embed="rId2"/>
          <a:stretch/>
        </p:blipFill>
        <p:spPr>
          <a:xfrm>
            <a:off x="2878200" y="228600"/>
            <a:ext cx="291312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gend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nternet Introduc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Modern us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onclus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ferenc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nternet Introducti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nternet Histor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RPA (Advanced Research Project Agency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e Foundation of Interne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6858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RPANE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CP (Transmission Control Protocol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Internet”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odern 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ACCOUN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E-COMMERC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CCOUNT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Defini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Old method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Use of computer and internet in Accoun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15440" y="2057400"/>
            <a:ext cx="8309160" cy="54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What is Accounting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e 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ART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of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recording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classifying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, and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summarizing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in a 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significant manner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and in terms of 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money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transactions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and 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events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which are, in part at least, of </a:t>
            </a:r>
            <a:r>
              <a:rPr b="0" lang="en-US" sz="3200" spc="-1" strike="noStrike">
                <a:solidFill>
                  <a:srgbClr val="3c653c"/>
                </a:solidFill>
                <a:latin typeface="Calibri"/>
              </a:rPr>
              <a:t>financial character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, and </a:t>
            </a:r>
            <a:r>
              <a:rPr b="0" lang="en-US" sz="2800" spc="-1" strike="noStrike">
                <a:solidFill>
                  <a:srgbClr val="3c653c"/>
                </a:solidFill>
                <a:latin typeface="Calibri"/>
              </a:rPr>
              <a:t>interpreting the results thereof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(AICPA)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092" name="Picture 5" descr="MoneyChart.jpg"/>
          <p:cNvPicPr/>
          <p:nvPr/>
        </p:nvPicPr>
        <p:blipFill>
          <a:blip r:embed="rId2"/>
          <a:stretch/>
        </p:blipFill>
        <p:spPr>
          <a:xfrm>
            <a:off x="5572080" y="214200"/>
            <a:ext cx="3286080" cy="1704960"/>
          </a:xfrm>
          <a:prstGeom prst="rect">
            <a:avLst/>
          </a:prstGeom>
          <a:ln w="0">
            <a:noFill/>
          </a:ln>
        </p:spPr>
      </p:pic>
      <p:sp>
        <p:nvSpPr>
          <p:cNvPr id="1093" name="AutoShape 2"/>
          <p:cNvSpPr/>
          <p:nvPr/>
        </p:nvSpPr>
        <p:spPr>
          <a:xfrm>
            <a:off x="453960" y="685800"/>
            <a:ext cx="830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CCO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anual Account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A bookkeeper kept the journals, the accounts receivable, the accounts payable and the ledgers in his best possible penmanship</a:t>
            </a:r>
            <a:r>
              <a:rPr b="0" lang="en-US" sz="2000" spc="-1" strike="noStrike" baseline="30000">
                <a:solidFill>
                  <a:srgbClr val="404040"/>
                </a:solidFill>
                <a:latin typeface="Calibri"/>
              </a:rPr>
              <a:t>(*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096" name="Picture 6" descr="Accounting[1].jpg"/>
          <p:cNvPicPr/>
          <p:nvPr/>
        </p:nvPicPr>
        <p:blipFill>
          <a:blip r:embed="rId2"/>
          <a:stretch/>
        </p:blipFill>
        <p:spPr>
          <a:xfrm>
            <a:off x="1357200" y="3929040"/>
            <a:ext cx="7072560" cy="2428920"/>
          </a:xfrm>
          <a:prstGeom prst="rect">
            <a:avLst/>
          </a:prstGeom>
          <a:ln w="0">
            <a:noFill/>
          </a:ln>
        </p:spPr>
      </p:pic>
      <p:sp>
        <p:nvSpPr>
          <p:cNvPr id="1097" name="AutoShape 2"/>
          <p:cNvSpPr/>
          <p:nvPr/>
        </p:nvSpPr>
        <p:spPr>
          <a:xfrm>
            <a:off x="453960" y="685800"/>
            <a:ext cx="830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CCO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Computerise Account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One of the first accounting programs was </a:t>
            </a:r>
            <a:r>
              <a:rPr b="0" lang="en-US" sz="3600" spc="-1" strike="noStrike">
                <a:solidFill>
                  <a:srgbClr val="404040"/>
                </a:solidFill>
                <a:latin typeface="Calibri"/>
              </a:rPr>
              <a:t>Lotus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404040"/>
                </a:solidFill>
                <a:latin typeface="Calibri"/>
              </a:rPr>
              <a:t>1-2-3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(1983)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mall test</a:t>
            </a:r>
            <a:r>
              <a:rPr b="0" lang="en-US" sz="2400" spc="-1" strike="noStrike" baseline="30000">
                <a:solidFill>
                  <a:srgbClr val="404040"/>
                </a:solidFill>
                <a:latin typeface="Calibri"/>
              </a:rPr>
              <a:t>(*)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00" name=""/>
          <p:cNvGraphicFramePr/>
          <p:nvPr/>
        </p:nvGraphicFramePr>
        <p:xfrm>
          <a:off x="2743200" y="3627360"/>
          <a:ext cx="5553000" cy="2773440"/>
        </p:xfrm>
        <a:graphic>
          <a:graphicData uri="http://schemas.openxmlformats.org/drawingml/2006/table">
            <a:tbl>
              <a:tblPr/>
              <a:tblGrid>
                <a:gridCol w="2751120"/>
                <a:gridCol w="280188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nd-d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u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1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 minutes to set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8 minutes to perform the comput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0 seconds to load the spreadsh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 minutes to input the inform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ess than one second for it to be tabulated and prin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</a:tr>
            </a:tbl>
          </a:graphicData>
        </a:graphic>
      </p:graphicFrame>
      <p:sp>
        <p:nvSpPr>
          <p:cNvPr id="1101" name="AutoShape 2"/>
          <p:cNvSpPr/>
          <p:nvPr/>
        </p:nvSpPr>
        <p:spPr>
          <a:xfrm>
            <a:off x="380880" y="685800"/>
            <a:ext cx="830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CCO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nternet and Account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rain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re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asy to get acces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hanging the way people learn account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4" name="AutoShape 2"/>
          <p:cNvSpPr/>
          <p:nvPr/>
        </p:nvSpPr>
        <p:spPr>
          <a:xfrm>
            <a:off x="453960" y="685800"/>
            <a:ext cx="830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CCO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5" name="Picture 6" descr="AC1.png"/>
          <p:cNvPicPr/>
          <p:nvPr/>
        </p:nvPicPr>
        <p:blipFill>
          <a:blip r:embed="rId2"/>
          <a:stretch/>
        </p:blipFill>
        <p:spPr>
          <a:xfrm>
            <a:off x="642960" y="4643280"/>
            <a:ext cx="7715160" cy="1071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1:04:35Z</dcterms:created>
  <dc:creator>Microsoft</dc:creator>
  <dc:description/>
  <dc:language>en-US</dc:language>
  <cp:lastModifiedBy>Office 2004 Test Drive User</cp:lastModifiedBy>
  <dcterms:modified xsi:type="dcterms:W3CDTF">2010-05-25T22:27:45Z</dcterms:modified>
  <cp:revision>44</cp:revision>
  <dc:subject/>
  <dc:title>Internet</dc:title>
</cp:coreProperties>
</file>